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2084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516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5192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200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5192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200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120" y="607680"/>
            <a:ext cx="748044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9516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2200" y="402084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9516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5192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52000" y="175212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220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5192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52000" y="4020840"/>
            <a:ext cx="2666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607680"/>
            <a:ext cx="748044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5160" y="402084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5160" y="1752120"/>
            <a:ext cx="40406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20840"/>
            <a:ext cx="82803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mailto:contact@kreacom.net" TargetMode="External"/><Relationship Id="rId4" Type="http://schemas.openxmlformats.org/officeDocument/2006/relationships/hyperlink" Target="http://www.kreacom.net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752120"/>
            <a:ext cx="8280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298440">
              <a:lnSpc>
                <a:spcPct val="105000"/>
              </a:lnSpc>
              <a:buClr>
                <a:srgbClr val="000000"/>
              </a:buClr>
              <a:buSzPct val="75000"/>
              <a:buFont typeface="Arial"/>
              <a:buChar char="■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239760">
              <a:lnSpc>
                <a:spcPct val="105000"/>
              </a:lnSpc>
              <a:buClr>
                <a:srgbClr val="000099"/>
              </a:buClr>
              <a:buSzPct val="125000"/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1676520" indent="-239760">
              <a:lnSpc>
                <a:spcPct val="105000"/>
              </a:lnSpc>
              <a:buClr>
                <a:srgbClr val="093a80"/>
              </a:buClr>
              <a:buSzPct val="75000"/>
              <a:buFont typeface="Tahoma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4" marL="2154240" indent="-237960">
              <a:lnSpc>
                <a:spcPct val="105000"/>
              </a:lnSpc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5" marL="2154240" indent="-237960">
              <a:lnSpc>
                <a:spcPct val="10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6" marL="2154240" indent="-237960">
              <a:lnSpc>
                <a:spcPct val="105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1650960" y="1484280"/>
            <a:ext cx="7594560" cy="0"/>
          </a:xfrm>
          <a:prstGeom prst="line">
            <a:avLst/>
          </a:prstGeom>
          <a:ln w="25560">
            <a:solidFill>
              <a:srgbClr val="83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5120" y="6381720"/>
            <a:ext cx="8636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fld id="{2703C3AB-2923-4B8A-BFDB-CF2A4B3B9348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444760" y="6419880"/>
            <a:ext cx="50227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réacom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- Tél.: 06 09 88 75 61 - Email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Tahoma"/>
                <a:hlinkClick r:id="rId3"/>
              </a:rPr>
              <a:t>contact@kreacom.net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 -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Tahoma"/>
                <a:hlinkClick r:id="rId4"/>
              </a:rPr>
              <a:t>www.kreacom.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62320" y="636264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324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200" spc="-1" strike="noStrike">
                <a:solidFill>
                  <a:srgbClr val="83005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830050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4343400"/>
            <a:ext cx="31399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830050"/>
                </a:solidFill>
                <a:latin typeface="Tahoma"/>
              </a:rPr>
              <a:t>Click to edit the outline text format</a:t>
            </a:r>
            <a:endParaRPr b="1" lang="en-US" sz="1600" spc="-1" strike="noStrike">
              <a:solidFill>
                <a:srgbClr val="830050"/>
              </a:solidFill>
              <a:latin typeface="Tahoma"/>
            </a:endParaRPr>
          </a:p>
          <a:p>
            <a:pPr lvl="1" marL="479520" indent="0" algn="ctr">
              <a:lnSpc>
                <a:spcPct val="10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957240" indent="60480" algn="ctr">
              <a:lnSpc>
                <a:spcPct val="105000"/>
              </a:lnSpc>
              <a:buClr>
                <a:srgbClr val="000099"/>
              </a:buClr>
              <a:buSzPct val="125000"/>
              <a:buFont typeface="Arial"/>
              <a:buChar char="•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3" marL="1436760" algn="ctr">
              <a:lnSpc>
                <a:spcPct val="105000"/>
              </a:lnSpc>
              <a:buClr>
                <a:srgbClr val="093a80"/>
              </a:buClr>
              <a:buSzPct val="75000"/>
              <a:buFont typeface="Tahoma"/>
              <a:buChar char="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4" marL="1916280" algn="ctr">
              <a:lnSpc>
                <a:spcPct val="105000"/>
              </a:lnSpc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5" marL="19162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6" marL="19162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28440" y="1295280"/>
            <a:ext cx="639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onstruire une équ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5790960" cy="33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5 types de pouvoir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83534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800" spc="-1" strike="noStrike">
                <a:solidFill>
                  <a:srgbClr val="093a80"/>
                </a:solidFill>
                <a:latin typeface="Arial Black"/>
              </a:rPr>
              <a:t>Obélix, le Réalisateur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2141640"/>
            <a:ext cx="86108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Astérix, le Guide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2019240"/>
            <a:ext cx="838224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800" spc="-1" strike="noStrike">
                <a:solidFill>
                  <a:srgbClr val="093a80"/>
                </a:solidFill>
                <a:latin typeface="Arial Black"/>
              </a:rPr>
              <a:t>Abraracourcix, l’Organisateur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95320" y="2068560"/>
            <a:ext cx="832500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800" spc="-1" strike="noStrike">
                <a:solidFill>
                  <a:srgbClr val="093a80"/>
                </a:solidFill>
                <a:latin typeface="Arial Black"/>
              </a:rPr>
              <a:t>Panoramix, le Mobilisateur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6360" y="2419200"/>
            <a:ext cx="875340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2800" spc="-1" strike="noStrike">
                <a:solidFill>
                  <a:srgbClr val="093a80"/>
                </a:solidFill>
                <a:latin typeface="Arial Black"/>
              </a:rPr>
              <a:t>Assurancetourix, le mobilisateur négatif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19320" y="2637000"/>
            <a:ext cx="775800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Dynamique des pouvoirs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52480" y="1630440"/>
            <a:ext cx="7315200" cy="41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607680"/>
            <a:ext cx="7480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 Black"/>
              </a:rPr>
              <a:t>Moments clés</a:t>
            </a:r>
            <a:endParaRPr b="0" lang="en-US" sz="2800" spc="-1" strike="noStrike">
              <a:solidFill>
                <a:srgbClr val="093a8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8239320" cy="474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22:21:49Z</dcterms:created>
  <dc:creator>Langevin Eric</dc:creator>
  <dc:description/>
  <dc:language>en-US</dc:language>
  <cp:lastModifiedBy>Langevin Eric</cp:lastModifiedBy>
  <dcterms:modified xsi:type="dcterms:W3CDTF">2007-12-15T18:51:49Z</dcterms:modified>
  <cp:revision>155</cp:revision>
  <dc:subject/>
  <dc:title>Présentation PowerPoint</dc:title>
</cp:coreProperties>
</file>