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da8d5"/>
                </a:solidFill>
                <a:latin typeface="Arial"/>
              </a:rPr>
              <a:t>Click to move the slide</a:t>
            </a: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B192-DD39-41C4-A24D-FA34324641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-2289240" y="304920"/>
            <a:ext cx="11379240" cy="8534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tre à l’aise les participants, ne pas hésiter à saluer et compléter les présentations de ceux que l’on connait avec des anecd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E11-FEB8-44DC-9A5E-BC22CE93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67F-3529-4267-86B7-C40BC89B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EDC-FCAD-4BBF-863E-6B2E30B7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F37-4E10-4123-A377-E27AA405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463D5-B1B1-47D2-BDDC-BF873B86D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E30E0-FF78-4799-A2D1-63F6096FD2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8D76B-7B12-47F7-AF9D-46147F162F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CDFB2-B921-4B04-B504-EAF4846D24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0071A-C91A-43EA-877F-D6E4BC313D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8000" y="63000"/>
            <a:ext cx="5943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4057E-427D-4830-A5A5-A32A9CAA53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D2A0B-8798-4E80-9DA8-2DCAA019D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1DC-807D-480F-8BF3-74F9CB8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5F004-BEB6-46FB-91EF-1CA962F6F2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30475-1441-4291-BCB9-D1BA6A399C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28EC5-5097-4DF6-A6F5-15FC528D58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9BB12-99D1-44C9-AA33-AE1DB83AAA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448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580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448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580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4146F-1F92-4A26-8A10-F623F18724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9CD-2F50-4211-B300-D106E70F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8000" y="63000"/>
            <a:ext cx="5943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448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95800" y="12189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52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448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95800" y="372636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6A5-EE64-46E9-84C1-55BEBB20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C07-2B7D-41D5-8C31-9BEE93AA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8000" y="63000"/>
            <a:ext cx="5943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7EE-8798-4DE0-8E55-73F90B7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D21-A159-4BF6-A894-501CDDA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7263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07F-D470-4ECB-915E-FCC6188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218960"/>
            <a:ext cx="394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726360"/>
            <a:ext cx="80769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1B2-3909-4AC6-834F-DC43310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37EB-9353-4CAA-9BA7-BD29E3B1E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6300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da8d5"/>
                </a:solidFill>
                <a:latin typeface="Arial"/>
              </a:rPr>
              <a:t>Click to edit the title text format</a:t>
            </a: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spcBef>
                <a:spcPts val="1001"/>
              </a:spcBef>
              <a:buSzPct val="13373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Click to edit the outline text format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1" marL="762120" indent="-279360" algn="just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Second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2" marL="1434960" indent="-291960" algn="just">
              <a:spcBef>
                <a:spcPts val="1001"/>
              </a:spcBef>
              <a:buClr>
                <a:srgbClr val="c66321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Third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3" marL="2390760" indent="-280800" algn="just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Four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4" marL="2874960" indent="-293760" algn="just">
              <a:spcBef>
                <a:spcPts val="1001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Fif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5" marL="2874960" indent="-293760" algn="just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Six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  <a:p>
            <a:pPr lvl="6" marL="2874960" indent="-293760" algn="just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a4972"/>
                </a:solidFill>
                <a:latin typeface="Arial"/>
              </a:rPr>
              <a:t>Seventh Outline Level</a:t>
            </a:r>
            <a:endParaRPr b="1" i="1" lang="en-US" sz="16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457840" y="64771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0672-71AD-420D-8ADA-2F2EF56DF64B}" type="slidenum">
              <a:rPr b="0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5530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wCGlobalLearn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008760" y="250920"/>
            <a:ext cx="2019240" cy="37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8158320" y="115920"/>
            <a:ext cx="86328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60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14440" y="243828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14440" y="3505320"/>
            <a:ext cx="472428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019920" y="6095880"/>
            <a:ext cx="2851200" cy="52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993080" y="189000"/>
            <a:ext cx="10429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0120" y="9540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3760" y="158760"/>
            <a:ext cx="50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da8d5"/>
                </a:solidFill>
                <a:latin typeface="Arial"/>
              </a:rPr>
              <a:t>Les différents rôles dans une équ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3745" t="4472" r="3745" b="0"/>
          <a:stretch/>
        </p:blipFill>
        <p:spPr>
          <a:xfrm>
            <a:off x="1763640" y="1773360"/>
            <a:ext cx="5329440" cy="4103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981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4972"/>
                </a:solidFill>
                <a:latin typeface="Arial"/>
              </a:rPr>
              <a:t>La performance de l'équipe dépend moins des personnalités qui la composent que de l'équilibre des rôles tenus par chacun de ses memb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60278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4972"/>
                </a:solidFill>
                <a:latin typeface="Arial"/>
              </a:rPr>
              <a:t>Un même rôle pouvant être endossé dans des contextes professionnels donnés par des personnalités totalement distinc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97840" y="5553000"/>
            <a:ext cx="227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4972"/>
                </a:solidFill>
                <a:latin typeface="Arial"/>
              </a:rPr>
              <a:t>Source: Les rôles en équipe : Meredith Belb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74160"/>
            <a:ext cx="568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3da8d5"/>
                </a:solidFill>
                <a:latin typeface="Arial"/>
              </a:rPr>
              <a:t>Les différents rôles dans une équipe</a:t>
            </a:r>
            <a:endParaRPr b="1" i="1" lang="en-US" sz="2200" spc="-1" strike="noStrike">
              <a:solidFill>
                <a:srgbClr val="3da8d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160" y="1019520"/>
            <a:ext cx="8992080" cy="5380560"/>
            <a:chOff x="38160" y="1019520"/>
            <a:chExt cx="8992080" cy="5380560"/>
          </a:xfrm>
        </p:grpSpPr>
        <p:sp>
          <p:nvSpPr>
            <p:cNvPr id="141" name=""/>
            <p:cNvSpPr/>
            <p:nvPr/>
          </p:nvSpPr>
          <p:spPr>
            <a:xfrm>
              <a:off x="38160" y="1019520"/>
              <a:ext cx="145404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080" y="108936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Typ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90760" y="1019520"/>
              <a:ext cx="249696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41920" y="1089360"/>
              <a:ext cx="128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Caractéristiqu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79800" y="1019520"/>
              <a:ext cx="249732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4040" y="10893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Qualit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81800" y="1019520"/>
              <a:ext cx="2496960" cy="354960"/>
            </a:xfrm>
            <a:prstGeom prst="rect">
              <a:avLst/>
            </a:prstGeom>
            <a:solidFill>
              <a:srgbClr val="ff993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65560" y="1089360"/>
              <a:ext cx="1646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66"/>
                  </a:solidFill>
                  <a:latin typeface="Arial"/>
                </a:rPr>
                <a:t>Faiblesses possib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160" y="1372680"/>
              <a:ext cx="145404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9440" y="1416600"/>
              <a:ext cx="123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'organis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90760" y="1372680"/>
              <a:ext cx="249696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73920" y="1415160"/>
              <a:ext cx="242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nservateur, prévisible, gran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71760" y="159048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de travail, a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19400" y="1590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3440" y="1590480"/>
              <a:ext cx="67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discipli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9800" y="1372680"/>
              <a:ext cx="249732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0800" y="1415160"/>
              <a:ext cx="247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d'organisation, bon se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8560" y="1372680"/>
              <a:ext cx="2498760" cy="545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60280" y="1415160"/>
              <a:ext cx="245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anque de souplesse envers l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7040" y="1590480"/>
              <a:ext cx="1436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dées non prouvé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1901880"/>
              <a:ext cx="145404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440" y="194544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souti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90760" y="1901880"/>
              <a:ext cx="249696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68880" y="1943640"/>
              <a:ext cx="887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lme, au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43240" y="19436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50520" y="1943640"/>
              <a:ext cx="156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ntrôle et confianc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67440" y="21214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en so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79800" y="1901880"/>
              <a:ext cx="249732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61880" y="1943640"/>
              <a:ext cx="2661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à traiter et accueillir tout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0800" y="2121480"/>
              <a:ext cx="234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es contributions potentielles d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1160" y="2296800"/>
              <a:ext cx="2359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anière objectives. Orienté v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es </a:t>
              </a: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objectif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54320" y="2472480"/>
              <a:ext cx="18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8560" y="1901880"/>
              <a:ext cx="2498760" cy="971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57400" y="1943640"/>
              <a:ext cx="178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eu enclin à la créativi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60" y="2871720"/>
              <a:ext cx="145404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9440" y="2915640"/>
              <a:ext cx="118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propuls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90760" y="2871720"/>
              <a:ext cx="249696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2120" y="2913480"/>
              <a:ext cx="187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Dynamique, centré sur 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70680" y="3091320"/>
              <a:ext cx="142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réalisation, nerve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9800" y="2871720"/>
              <a:ext cx="249732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61520" y="2913480"/>
              <a:ext cx="254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et volonté de faire face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59000" y="3091320"/>
              <a:ext cx="199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'inertie, à l'inefficacité, à 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56480" y="3266640"/>
              <a:ext cx="1006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mplaisa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8560" y="2871720"/>
              <a:ext cx="2498760" cy="706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60280" y="2913480"/>
              <a:ext cx="230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Tendance à la provocation et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4880" y="3091320"/>
              <a:ext cx="86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l'impati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160" y="357588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080" y="3621960"/>
              <a:ext cx="121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concep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90760" y="357588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72840" y="3620160"/>
              <a:ext cx="235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ndividualiste, original, intellig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79800" y="357588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61880" y="3620160"/>
              <a:ext cx="267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"Génie", imagination, connaissance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56120" y="3795840"/>
              <a:ext cx="823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ntellig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78560" y="357588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9560" y="3620160"/>
              <a:ext cx="230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"Plane", ne s'intéresse pas aux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59200" y="3795840"/>
              <a:ext cx="2295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aspects pratiques ni aux détail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60" y="4105080"/>
              <a:ext cx="145404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1600" y="41508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1240" y="4361400"/>
              <a:ext cx="89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omo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90760" y="4105080"/>
              <a:ext cx="249696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3560" y="4149000"/>
              <a:ext cx="2432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Extraverti, curieux, enthousiaste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7800" y="432468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expansif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79800" y="4105080"/>
              <a:ext cx="249732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0080" y="4149000"/>
              <a:ext cx="2204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Facilité de contact Capacité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58280" y="4324680"/>
              <a:ext cx="1363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répondre aux déf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8560" y="4105080"/>
              <a:ext cx="2498760" cy="70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60640" y="4149000"/>
              <a:ext cx="246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usceptible de perdre tout intérê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49480" y="4324680"/>
              <a:ext cx="2053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our la mission, une fois le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remier </a:t>
              </a: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nthousiasme passé</a:t>
              </a: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080" y="4500360"/>
              <a:ext cx="1800" cy="1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60" y="481140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0160" y="485568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’exp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90760" y="481140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72840" y="4853520"/>
              <a:ext cx="194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obre, peu émotif, prud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79800" y="481140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0800" y="4853520"/>
              <a:ext cx="216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Jugement, prudence, ténaci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78560" y="481140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59560" y="485352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anque d'inspiration, n'a pas 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9920" y="502956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apacité pour motiver les autr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160" y="534024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800" y="5384160"/>
              <a:ext cx="86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pris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0760" y="534024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0680" y="538272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ociable, sensible, convivi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79800" y="534024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59720" y="5382720"/>
              <a:ext cx="2232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Sensibilité à autrui, capacité à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9720" y="5560200"/>
              <a:ext cx="200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promouvoir l'esprit d'équip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8560" y="534024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8840" y="5382720"/>
              <a:ext cx="208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Indécis dans les périodes d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ri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60" y="5869440"/>
              <a:ext cx="145404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1600" y="591336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9080" y="6125400"/>
              <a:ext cx="1247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erfectionn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90760" y="5869440"/>
              <a:ext cx="24969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71760" y="5911200"/>
              <a:ext cx="170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Méthodique, soigneux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70680" y="6089040"/>
              <a:ext cx="1692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consciencieux, anxieu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79800" y="5869440"/>
              <a:ext cx="249732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2240" y="5911200"/>
              <a:ext cx="271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Volonté d'aller "au bout des choses"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56480" y="60890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détermin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78560" y="5869440"/>
              <a:ext cx="2498760" cy="5306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60280" y="5911200"/>
              <a:ext cx="239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Tendances à s'inquiéter pour u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59200" y="6089040"/>
              <a:ext cx="199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66"/>
                  </a:solidFill>
                  <a:latin typeface="Arial"/>
                </a:rPr>
                <a:t>rien, ne laisse rien "passer"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8:57:50Z</dcterms:created>
  <dc:creator>payette</dc:creator>
  <dc:description/>
  <dc:language>en-US</dc:language>
  <cp:lastModifiedBy>payette</cp:lastModifiedBy>
  <dcterms:modified xsi:type="dcterms:W3CDTF">2010-02-03T08:57:57Z</dcterms:modified>
  <cp:revision>1</cp:revision>
  <dc:subject/>
  <dc:title>Diapositive 1</dc:title>
</cp:coreProperties>
</file>