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6FC5-50F8-4933-B0D7-F7B1816D2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75121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5480" y="3473280"/>
            <a:ext cx="75121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0418-9DD4-4172-8C77-68883C9D3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6496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5480" y="347328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64960" y="347328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9B1F-3292-4C64-9DAD-B2242BD94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5280" y="76464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080" y="76464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5480" y="347328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55280" y="347328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080" y="347328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E944-AC6E-47DF-B6A5-3E8760A58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5480" y="764640"/>
            <a:ext cx="751212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75121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366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64960" y="764640"/>
            <a:ext cx="366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82480" y="158400"/>
            <a:ext cx="79790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64960" y="764640"/>
            <a:ext cx="366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15480" y="347328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5480" y="764640"/>
            <a:ext cx="7512120" cy="51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F792-77A4-48F8-9A22-EBC569CDD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366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6496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64960" y="347328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6496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5480" y="3473280"/>
            <a:ext cx="75121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75121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15480" y="3473280"/>
            <a:ext cx="75121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6496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5480" y="347328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64960" y="347328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55280" y="76464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95080" y="76464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15480" y="347328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55280" y="347328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95080" y="3473280"/>
            <a:ext cx="24184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75121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1B53-30E4-4701-AA29-302F7E058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366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64960" y="764640"/>
            <a:ext cx="366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6467E-3890-495C-AF93-9C31B0DC8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3D2E-AE48-4B8F-8CAF-808276532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82480" y="158400"/>
            <a:ext cx="79790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C8ED-9C4B-439D-9C03-A530FE4DC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64960" y="764640"/>
            <a:ext cx="366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5480" y="347328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E126B-E9C6-4725-9182-4183F99C8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366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6496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4960" y="347328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C415-8B63-43A2-9719-A9EEB24D7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548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64960" y="764640"/>
            <a:ext cx="36658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5480" y="3473280"/>
            <a:ext cx="75121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7B0A-7BFF-4E3C-9980-A4EBAF858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15840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5480" y="764640"/>
            <a:ext cx="75121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1" marL="343080" indent="-343080">
              <a:spcBef>
                <a:spcPts val="349"/>
              </a:spcBef>
              <a:buClr>
                <a:srgbClr val="000066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2" marL="343080" indent="-343080">
              <a:spcBef>
                <a:spcPts val="349"/>
              </a:spcBef>
              <a:buClr>
                <a:srgbClr val="0000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3" marL="343080" indent="-343080">
              <a:spcBef>
                <a:spcPts val="349"/>
              </a:spcBef>
              <a:buClr>
                <a:srgbClr val="000066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4" marL="343080" indent="-343080">
              <a:spcBef>
                <a:spcPts val="349"/>
              </a:spcBef>
              <a:buClr>
                <a:srgbClr val="000066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5"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lvl="6"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64200" y="6308280"/>
            <a:ext cx="1422720" cy="3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page </a:t>
            </a:r>
            <a:fld id="{23C30C7B-0890-447C-9FDE-5CBE3C53296B}" type="slidenum">
              <a:rPr b="1" lang="fr-FR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/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195640" y="6337440"/>
            <a:ext cx="45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Palatino Linotype"/>
              </a:rPr>
              <a:t>ÉQUIPES DE RÊVE EN ACTION !</a:t>
            </a:r>
            <a:r>
              <a:rPr b="1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313000" y="6194520"/>
            <a:ext cx="451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Palatino Linotype"/>
              </a:rPr>
              <a:t>EUREKA ! ET CHEF-D’ŒUVRE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2480" y="157320"/>
            <a:ext cx="797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 Rounded MT Bold"/>
              </a:rPr>
              <a:t>LE JEU DE LA VOIE DES CONTES</a:t>
            </a: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123920"/>
            <a:ext cx="2432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. LE CHANGEMENT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01 / 51 :  Le Corbeau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02 / 52 :  Toutes-Fourrures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03 / 53 :  L’Esprit dans la bouteille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04 / 54 :  L’Eau de la vie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2. LES OBSTACLES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05 / 55 :  Sept d’un coup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06 / 56 :  Unœil, Deuxyeux, Troisyeux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07 / 57 :  L’Ondine dans son étang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08 / 58 :  L’Homme de fer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3. LES COINCIDENCES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09 / 59 :  L’Homme à la peau d’ours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0 / 60 :  Les Trois oisillons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1 / 61 :  Jean‑le‑Fidèle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2 / 62 :  Le Serpent blanc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4. L’INSPIRATION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3 / 63 :  Les Trois plumes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4 / 64 :  La Fille intelligente du paysan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5 / 65 :  Les Douze frères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6 / 66 :  Le Roi Barbabec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5. L’ATTENTION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7 / 67 :  Frérot et sœurette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8 / 68 :  La Gardeuse d’oies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9 / 69 :  La Boule de cristal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20 / 70 :  Le Genévrier</a:t>
            </a: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1125360"/>
            <a:ext cx="2735280" cy="35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0. L’AMB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37 / 87 :  Le Chat bot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38 / 88 :  Le Petit chaperon rou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39 / 89 :  L’Énig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40 / 90 :  Tom pou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1. L’ENSEM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41 / 91 :  Le Tap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42 / 92 :  Mushkil Gu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43 / 93 :  Les Trois insépar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44 / 94 :  Le Parr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2. LA CROISS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45 / 95 :  Volé-Trouv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46 / 96 :  La Lumière ble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47 / 97 :  Diable-V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48 / 98 :  Le Bouff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3. LA CRE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49 :   Fuseau, navette, aigui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50 :   La Fanfare de Brê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99 :   La Belle et la Bê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100 :   Le Langage des anim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6880" y="1125360"/>
            <a:ext cx="273528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 </a:t>
            </a: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6. LE V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21 / 71 :  L’Ouisti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22 / 72 :  La Sacoche, le vieux chapeau,  la petite trompet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23 / 73 :  Hans‑mon‑héris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24 / 74 :  Le Tamb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7. LE MODELE DE CROISS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25 / 75 :  L’Oiseau d’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26 / 76 :  La Maison forestiè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27 / 77 :  Dame Ho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28 / 78 :  L’Œil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8. LES DEMONS INTERI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29 / 79 :  Le Vieux cricr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30 / 80 :  L’ Âne‑sal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31 / 81 :  Le Diable et sa grand‑mè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32 / 82 :  Le Prince qui n’avait peur de r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9. LE DES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33 / 83 :  Les Douze chass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34 / 84 :  Le Docteur je‑sais‑t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35 / 85 :  Les Six servit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Palatino Linotype"/>
              </a:rPr>
              <a:t>36 / 86 :  Le Diable et ses trois cheveux d’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7:50:21Z</dcterms:created>
  <dc:creator>Langevin Eric</dc:creator>
  <dc:description/>
  <dc:language>en-US</dc:language>
  <cp:lastModifiedBy>Eric Langevin</cp:lastModifiedBy>
  <dcterms:modified xsi:type="dcterms:W3CDTF">2010-03-25T20:51:07Z</dcterms:modified>
  <cp:revision>892</cp:revision>
  <dc:subject/>
  <dc:title>Présentation PowerPoint</dc:title>
</cp:coreProperties>
</file>